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5937-CDA7-4FF1-B72B-8E7757777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7E6-1555-4475-ACCA-A4DC28A2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BCD1-B277-43D0-AED8-36AC53D3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A045-242F-4076-B034-D1FF1EFE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9461-207A-4F54-831B-C59C0946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4A0B-19FB-42E1-A8EA-02A8CE08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E1B4-05C8-4685-BDBE-1DC650D4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1229-E883-49BE-9B3F-F8150FFB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09F6-8163-4976-ACE5-9A713BB1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A2012-B7F8-4645-9371-5E5CA125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40A8-CB9C-4882-BA90-582B0973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AED7-4EFF-447E-88B2-9EC85F71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014B-BB94-4FDB-9653-AFA8564B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015B-E780-4D2A-A0EC-064F6808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96B6-82D7-4F59-B3CB-DC875110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629E-2188-4EC8-A544-266ED609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96F6-6129-44D6-921E-35A6C7B5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0FB5-FFBE-460F-A835-D61F0F48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BBE-6C12-4F7D-99E5-1A53701D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5E0F-5EB6-4D50-93EB-06710173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EA25-A50E-46C2-AC88-B64A0109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1BF2-92CA-43A1-9080-0B6B34C2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C195-35D4-425D-A768-9D08F426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4976-DF64-4FD6-90B6-E2A1D8DE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6C5C-ABFB-4F1C-A541-47B19A206A84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5D56-6BD1-4783-9A4B-8DEECD0A61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798F-4C21-4860-BB64-C12265A9E513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7A62-148D-4E94-96BC-6592B6CAC9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Math Coprocessor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t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73FA337-CBBF-4844-B48F-78DC3724E6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PU Tag Regis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719360"/>
          <a:ext cx="8229600" cy="850680"/>
        </p:xfrm>
        <a:graphic>
          <a:graphicData uri="http://schemas.openxmlformats.org/drawingml/2006/table">
            <a:tbl>
              <a:tblPr/>
              <a:tblGrid>
                <a:gridCol w="514440"/>
                <a:gridCol w="514440"/>
                <a:gridCol w="514080"/>
                <a:gridCol w="514440"/>
                <a:gridCol w="514440"/>
                <a:gridCol w="514440"/>
                <a:gridCol w="514080"/>
                <a:gridCol w="514440"/>
                <a:gridCol w="514440"/>
                <a:gridCol w="514440"/>
                <a:gridCol w="514080"/>
                <a:gridCol w="514440"/>
                <a:gridCol w="514440"/>
                <a:gridCol w="514440"/>
                <a:gridCol w="514080"/>
                <a:gridCol w="5144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1523880" y="3429000"/>
          <a:ext cx="6096240" cy="24368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G Valu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r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, NAN,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∞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t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A37C4-0A35-4B26-A76B-109FA124BE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PU Point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truction Pointer a pointer to the instruction that caused an exce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Pointer a pointer to the data used by the instruction that caused an exce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C0900-EDD2-4C05-8D99-0B937FA783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umber Represen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er numbers in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ger numbers in Packed Decim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l Numbers in IEEE 754/854 standard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these representations are </a:t>
            </a: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ONL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mem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ternally </a:t>
            </a: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AL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numbers are represented on 80 bits as temporary real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C1BD2-D163-4C43-82F9-8D08EEF9A5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teger Data Typ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d Integer DW 16 bit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ort Integer DD 32 bit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 Integer DQ 64 bit C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cked Decimal DT 80 bit Value &amp; Sig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050920" y="4005360"/>
            <a:ext cx="720720" cy="465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3789360"/>
            <a:ext cx="8569080" cy="230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606A4-B514-4F5B-8760-25827E8C89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al Number Representation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ormalized For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(-1)</a:t>
            </a:r>
            <a:r>
              <a:rPr b="1" lang="en-US" sz="3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 * 1.mantissa *2 </a:t>
            </a:r>
            <a:r>
              <a:rPr b="1" lang="en-US" sz="3800" spc="-1" strike="noStrike" baseline="30000">
                <a:solidFill>
                  <a:srgbClr val="000000"/>
                </a:solidFill>
                <a:latin typeface="Arial"/>
              </a:rPr>
              <a:t>(exponent- Bias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ias = 07FH for short real;127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ias = 03FFH for long real;1023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Bias = 03FFFh for temp real; 16383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14760" y="1773360"/>
            <a:ext cx="200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DC6AE-4FEE-4B6B-93A2-878D7A028C3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hort Real 32 bits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ouble Word D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14200" y="2205000"/>
            <a:ext cx="8929800" cy="33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24048-3BE9-4A75-B595-363B615848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ong Real 64 bits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ad Word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DQ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893080" cy="30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B4635-3864-48F2-8AE5-6E3052E70F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emporary Real 80 bits Ten word D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424720" cy="244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845E0-ED80-47E1-A9BF-3D5D1CBCC4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 of real number represen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l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00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F800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11 1111 1</a:t>
            </a:r>
            <a:r>
              <a:rPr b="1" lang="en-US" sz="3000" spc="-1" strike="noStrike">
                <a:solidFill>
                  <a:srgbClr val="00ffcc"/>
                </a:solidFill>
                <a:latin typeface="Arial"/>
              </a:rPr>
              <a:t>000 0000 0000 0000 0000 0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Fl2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 2.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0004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40000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100 0000 0</a:t>
            </a:r>
            <a:r>
              <a:rPr b="1" lang="en-US" sz="3000" spc="-1" strike="noStrike">
                <a:solidFill>
                  <a:srgbClr val="00ffcc"/>
                </a:solidFill>
                <a:latin typeface="Arial"/>
              </a:rPr>
              <a:t>000 0000 0000 0000 0000 0000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fl1_3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dd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 -1.3; actually -1,29999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0008  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BFA6666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011 1111 1</a:t>
            </a:r>
            <a:r>
              <a:rPr b="1" lang="en-US" sz="3000" spc="-1" strike="noStrike">
                <a:solidFill>
                  <a:srgbClr val="00ffcc"/>
                </a:solidFill>
                <a:latin typeface="Arial"/>
              </a:rPr>
              <a:t>010 0110 0110 0110 0110 0110</a:t>
            </a:r>
            <a:r>
              <a:rPr b="1" lang="sv-SE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C96458-3226-45E7-84ED-F892155DFD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presentation err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avoid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y be very sm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st take account when designing numerical algorithm for complex compu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be controlled with rounding policy from Control W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49173-1E38-499D-A227-C31909AFC2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lin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h Coprocessor Op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th Coprocessor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esentation err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51CFC-8510-4955-9417-B1CF9940A2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PU Instru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mov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conver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ithmetic Instru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rison Instru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tant Instru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cendental Instru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scellaneous Instru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3FEAB-D83B-423F-955B-F20F88ADF5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th Coprocessor Ope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ares the same Data, Address and Control BUS as the main proces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different chips for old processo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same silicon die starting with 486D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tructions preceded by an ESC sequen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rates in parallel with main proces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processor may overtake BUS for longer periods if more data is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E99CF-6934-4127-B51A-C982579B94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th Coprocessor Ope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processor has no access to regis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can use registers for addres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addressing modes are available except immediate address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s special synchronization signals to cooper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tructions take tens to hundreds of cycles to comple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DD1FE-14A4-45DA-A672-7FE62F7097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th Coprocessor Stru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gister Sta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rol Regi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tus Regi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g Regis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truction Po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Po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2124A1-655D-4C1B-AB2F-73EF0B82FA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PU Register Stac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9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F581CB-6ABB-407C-8BCE-7C9A5F8C21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PU Control Regis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43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DA0B7-9254-446A-974C-C7DEEE0E08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PU Status Regist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42472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2FA48-96D2-495F-B67A-1BA5D9C060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aning of C</a:t>
            </a:r>
            <a:r>
              <a:rPr b="1" lang="en-US" sz="3900" spc="-1" strike="noStrike" baseline="-25000">
                <a:solidFill>
                  <a:srgbClr val="330066"/>
                </a:solidFill>
                <a:latin typeface="Arial"/>
              </a:rPr>
              <a:t>3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</a:t>
            </a:r>
            <a:r>
              <a:rPr b="1" lang="en-US" sz="3900" spc="-1" strike="noStrike" baseline="-25000">
                <a:solidFill>
                  <a:srgbClr val="330066"/>
                </a:solidFill>
                <a:latin typeface="Arial"/>
              </a:rPr>
              <a:t>2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</a:t>
            </a:r>
            <a:r>
              <a:rPr b="1" lang="en-US" sz="3900" spc="-1" strike="noStrike" baseline="-25000">
                <a:solidFill>
                  <a:srgbClr val="330066"/>
                </a:solidFill>
                <a:latin typeface="Arial"/>
              </a:rPr>
              <a:t>1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</a:t>
            </a:r>
            <a:r>
              <a:rPr b="1" lang="en-US" sz="3900" spc="-1" strike="noStrike" baseline="-25000">
                <a:solidFill>
                  <a:srgbClr val="330066"/>
                </a:solidFill>
                <a:latin typeface="Arial"/>
              </a:rPr>
              <a:t>0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bits after compare instru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209080" cy="2335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324000" y="4076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Conditional Jumps to test FPU compare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copy Status Register in to registers and examine with x86 instruc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UC-N dr. Emil CEBU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34603-A340-45AC-9AC3-60F8E04B52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09:55Z</dcterms:created>
  <dc:creator>dr. Emil CEBUC</dc:creator>
  <dc:description/>
  <dc:language>en-US</dc:language>
  <cp:lastModifiedBy>dr. Emil CEBUC</cp:lastModifiedBy>
  <dcterms:modified xsi:type="dcterms:W3CDTF">2006-11-29T07:26:41Z</dcterms:modified>
  <cp:revision>29</cp:revision>
  <dc:subject/>
  <dc:title>Macro definitions</dc:title>
</cp:coreProperties>
</file>