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098-5129-4B22-B1BC-CA71C4CB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D58-92D7-4A9E-A174-00B87EE7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D30-D131-41EE-A50C-FDA967B8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77B-4FA4-4364-B756-291EC203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99F7-903F-411D-AD91-E2F84413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8467-8879-445C-B6E2-5EF1F473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3446-FA83-4064-B284-706B29A5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A644-0FFA-4F6F-9A60-A0AE8BCC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9BCF-8241-431B-AB21-31E72667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495B-B495-4A33-AB56-B231B53B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9D37-28F7-4797-BD92-466FE277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7B4-9C87-439D-8B3F-A395553B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A825-70D2-4179-9C32-C1A33749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9780-D6E7-444F-B12D-2DE63BA1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1286-FCFC-4DBB-A98E-6CE323AD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C2C5-7D8A-4062-B969-79FF883B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A3BB-0354-4580-A541-97CDB7FA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331-F0E8-4130-8946-7855F1A3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1135-8988-40BC-9505-6F1BA6F0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6EA-4B46-423B-8436-25D44CA6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3DE-E08D-4DA1-A286-970BE98E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871-FAC8-49C0-8ACB-250B117D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9C0-C454-4ECD-BA3D-E85F8C80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629-2996-48BD-94B8-9676FD7C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2101-3675-44FD-9A55-04D072D3764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EA11-B2A1-44E8-A616-934F1F440C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6152-3E25-48F3-99CE-CF781A468D8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DF20-6806-45CD-97BB-C6BD88F7CA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Libraries in Assembl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55053EF-6811-4ECC-8B38-64E589EFEC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a libr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le ope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C51D4-C441-4923-A258-28B5A3F60B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a libr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ibrary is a collection of 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objec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les, mod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.asm source code is already assembl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are gathered together  in a .lib file with aid of a librarian </a:t>
            </a: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LIB or LI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 all modules are in a library they are used during link edition by </a:t>
            </a: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LINK or LIN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generate the executable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BC06C-1254-4808-B578-B1220BDE5E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LIB oper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ntax: TLIB libname [/C] [/E] commands, listfi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bname     library file pathn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mands    sequence of operations to be performed (optional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stfile    file name for listing file (optional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command is of the form: &lt;symbol&gt;modulename, where &lt;symbol&gt; i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ff6600"/>
                </a:solidFill>
                <a:latin typeface="Arial"/>
              </a:rPr>
              <a:t>+           ad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modulename to the libra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ff3399"/>
                </a:solidFill>
                <a:latin typeface="Arial"/>
              </a:rPr>
              <a:t>-           remov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modulename from the libra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99ff33"/>
                </a:solidFill>
                <a:latin typeface="Arial"/>
              </a:rPr>
              <a:t>*           extrac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modulename without removing 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3399ff"/>
                </a:solidFill>
                <a:latin typeface="Arial"/>
              </a:rPr>
              <a:t>-+ or +-    updat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modulename in libra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ff9900"/>
                </a:solidFill>
                <a:latin typeface="Arial"/>
              </a:rPr>
              <a:t>-* or *-    extrac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modulename and remove 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C          case-sensitive libra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E          create extended dictiona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D490E-B32F-4287-A04E-01628CBD1D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sm delaypr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obtain object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lib mylib +-delaypr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update libr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sm dmain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main proced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link /t </a:t>
            </a:r>
            <a:r>
              <a:rPr b="0" lang="en-US" sz="3000" spc="-1" strike="noStrike">
                <a:solidFill>
                  <a:srgbClr val="0033cc"/>
                </a:solidFill>
                <a:latin typeface="Arial"/>
              </a:rPr>
              <a:t>dmain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dmain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99ff33"/>
                </a:solidFill>
                <a:latin typeface="Arial"/>
              </a:rPr>
              <a:t>myma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myli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main3 objec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main3 com fil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mymap map file ; contains info about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mylib my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9D634-7D50-46CD-A6C8-2F1C554905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on Err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ify procedure 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get to update libr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e mismatch in the two mod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EE887-1146-48F0-A903-8802B48751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09:55Z</dcterms:created>
  <dc:creator>dr. Emil CEBUC</dc:creator>
  <dc:description/>
  <dc:language>en-US</dc:language>
  <cp:lastModifiedBy>dr. Emil CEBUC</cp:lastModifiedBy>
  <dcterms:modified xsi:type="dcterms:W3CDTF">2006-11-21T17:13:50Z</dcterms:modified>
  <cp:revision>8</cp:revision>
  <dc:subject/>
  <dc:title>Macro definitions</dc:title>
</cp:coreProperties>
</file>