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ADE-B0BD-4823-8E76-7A99C057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0AB-FB88-4C1B-AADF-02FEAB4D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A90-5455-409E-AAD3-532FF313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6D0-97F6-4643-8099-8682367C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258C-669A-4ED5-B9C9-993E0668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171C-056A-480A-BF9B-B09BB4D1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9B2E-33AB-4B46-8B73-245EB1FE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0F93-DC54-4483-A5A0-CB4C6E71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4377-1E65-4A50-B32E-76AF0671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09DE-1D82-45B4-A021-7CA9FF93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6133-125D-4825-BE38-380A6AB9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6F2-790D-44D7-8634-62841E19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42AE-7198-4EFB-9B07-0A1D016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7015-82F8-49F3-B1C9-15D35238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7618-4628-456B-B468-C6B40B2D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22F9-817B-48DB-A380-1C434D11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F891-5C01-4076-A25E-7D46C523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CCF-718A-48A1-A8E6-1E83B60E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1AB-268B-40C1-AA5E-F419EDBE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CC5-1DEA-4597-B9FC-5B1BC9C9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834-52B3-47B3-BDC6-37BDB71E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253-A719-49FC-A9D6-612C0606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39C-1AA6-4E2B-AC31-76CD2B41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363-04FE-4720-A68C-E3717A38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13A5-AC4A-456B-8394-C06DA29EAB7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B6F7-4314-4C70-83B7-86F353C46F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DAD5-A853-476E-8A15-BF5D6D95906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9D76-28AA-4E65-8959-211F40E0C0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Multiple Segmen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exe styl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A2D4FE2-8884-479A-BDED-70F15B4AC7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 style program skele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mbolic debug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3A07C-68AA-4068-9130-B35FA75684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e style skelet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more than one segment, as many as you li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only 4(6) active at one time, selected by ASSUME dir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have your own stack, otherwise warning issued by lin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2C263-A416-4309-B5CC-82A882B319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e style skeleton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 PAR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STACK ‘stack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4 DUP (“my_stack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Arial"/>
              </a:rPr>
              <a:t>DATA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 PARA PUBLIC ‘data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data defin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Arial"/>
              </a:rPr>
              <a:t>DATA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AC33E-A305-4533-8CC0-C82A1E9752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e style skeleton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 PARA PUBL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‘code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MA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F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S:COD1,DS:</a:t>
            </a:r>
            <a:r>
              <a:rPr b="0" lang="en-US" sz="3000" spc="-1" strike="noStrike">
                <a:solidFill>
                  <a:srgbClr val="99ff33"/>
                </a:solidFill>
                <a:latin typeface="Arial"/>
              </a:rPr>
              <a:t>DATA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SS:STC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X,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X,</a:t>
            </a:r>
            <a:r>
              <a:rPr b="0" lang="en-US" sz="3000" spc="-1" strike="noStrike">
                <a:solidFill>
                  <a:srgbClr val="99ff33"/>
                </a:solidFill>
                <a:latin typeface="Arial"/>
              </a:rPr>
              <a:t>DATA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S,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4CFCC-E876-4E19-8224-D924CA8247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e style skeleton (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M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C43C1-3DC3-46F4-80B6-3FBE42A405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mbolic debugg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with exe style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M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/z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full debug inf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LINK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/v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full debug inf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9B628-B373-482B-AFF0-E66731602F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 and display sum of two three digit numbers read from the keybo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 only numbers as inp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buffered input DOS function (0A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1E510-81D6-4D18-8723-EA84A23431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09:55Z</dcterms:created>
  <dc:creator>dr. Emil CEBUC</dc:creator>
  <dc:description/>
  <dc:language>en-US</dc:language>
  <cp:lastModifiedBy>dr. Emil CEBUC</cp:lastModifiedBy>
  <dcterms:modified xsi:type="dcterms:W3CDTF">2006-11-21T19:41:48Z</dcterms:modified>
  <cp:revision>15</cp:revision>
  <dc:subject/>
  <dc:title>Macro definitions</dc:title>
</cp:coreProperties>
</file>