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791-67B7-4673-AFC2-3977536C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09B-5C73-4C1B-A5B7-CDB91564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4A3-8633-48ED-ADE4-48F062A8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DBD-886F-4514-BD73-F7C53602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0EBA-C948-478B-BD61-72FE2B5F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AD2A-8273-4672-BFB2-AAB15E7D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4D3F-DB5D-402B-B1AE-EF9356E8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9DD9-FC5B-4288-A783-68DB48C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A2C8-7D78-4A2B-9708-10B9DFC1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36C-046C-47AC-8520-9EA223F9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FDF2-4EEC-42BB-9E7C-366D815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5DE-D6E0-4F86-868C-5306D76B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8C4D-AB20-4030-949C-9396B90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312B-1880-4A2B-AAA0-A21FE985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8D6-F4F0-47BD-BA3D-79F692AE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FABB-0D88-425B-A4B1-E174B467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6C0-F74F-48F1-8499-82B06E3C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A8B-FB90-4E6F-8881-72EB5F8A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93F-DB22-4C5F-957B-1C6580F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97F-30EA-4D58-9946-5B86334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ADD-6864-4AA3-92AF-951D4EAB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5B9-14FD-4B9A-89FC-C9FAA55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7D3-F850-4F41-B805-05CC13D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325-242E-4E4D-8B4C-96202FB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A3E-F952-451F-B7D2-E84A73E9EEA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35A-5BDF-4F31-868F-F7994BFB4D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6F8-0E12-49F4-B892-66884D689D3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AEA0-D8C7-4FF6-808D-165894DD82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7F9F-7723-45E5-94A5-CC8AACE4500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acro defini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ros in a different fi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e have a lot of macros, we can put them all, or grouped in a different files than our assembly source file, usually this kind of file has the extension .mac or .inc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 files are also text files like our source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B98-12B1-4769-86A4-A7F3BC80EC7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use a macro fi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acrofile containing macros mymac.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ource file use the following cod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ymac.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quence should pe placed just before defining the code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F4F3-D8BB-47E8-A227-88D9B4C6C94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nditional assembly 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s between IF1 and ENDIF will pe regarded by the assembler only at the firs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s definitions are not needed at the second pass when the machine code is generated, because they are already expanded/repla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107E-AF99-4FDE-81B1-EBB2188F6C6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FDE-82B5-42EB-8FB9-1507FFD7FF1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MAC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 set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MAC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CRO is a sequence of code which can be reused several times by changing formal parameters with actu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fferent from a procedure call because the program flow is not al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acro is encountered the assembler will replace the name of the macro with the body of the macro, something like find and replace in a text editor, but also updating the parameters of the ma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F6D2-C8ED-4BD8-BD82-773B9DBCA64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9ED-3488-44B3-B527-3F485435068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ro Setup/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_Na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l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macro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generic parameters and labels ar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ro setup/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st of form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mal parameters will be replaced with actu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ocal we can define a list of local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usage of the macro, the labels that are defined as local to a macro, will get a new name, so we do not get a multiple defined symbol error from the assemb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52E-0425-45B2-82F4-6CA194D5920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851C-7444-4EFB-80EA-AECB58987B7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ro U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_Na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ct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…, act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more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_Na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ct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…, act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more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_Name is expanded inline and parameters are replaced with actual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9249-8410-4797-A3EE-EF57A692172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Err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meter type mism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get to put local lab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FC1A-682C-4747-A579-EE99C364D5D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 Defini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33cc"/>
                </a:solidFill>
                <a:latin typeface="Arial"/>
              </a:rPr>
              <a:t>MACR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X,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empty loop x * y ti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Arial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6600"/>
                </a:solidFill>
                <a:latin typeface="Arial"/>
              </a:rPr>
              <a:t>l1,l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cx is not altered by delay mac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x,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cx as counter for 2 imbricated lo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00"/>
                </a:solidFill>
                <a:latin typeface="Arial"/>
              </a:rPr>
              <a:t>l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sh c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save on stack outer lo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 cx,</a:t>
            </a:r>
            <a:r>
              <a:rPr b="1" lang="en-US" sz="2900" spc="-1" strike="noStrike">
                <a:solidFill>
                  <a:srgbClr val="cccc00"/>
                </a:solidFill>
                <a:latin typeface="Arial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inner loop cou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00"/>
                </a:solidFill>
                <a:latin typeface="Arial"/>
              </a:rPr>
              <a:t>l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do noth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op l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p c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restore outer loop cou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op l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; restore c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33cc"/>
                </a:solidFill>
                <a:latin typeface="Arial"/>
              </a:rPr>
              <a:t>END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612-7D4F-423D-A26B-36964CA1310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C-N dr. Emil CE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U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delay</a:t>
            </a: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FFFFh,0F800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delay</a:t>
            </a: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F800h,0FFFF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09:55Z</dcterms:created>
  <dc:creator>dr. Emil CEBUC</dc:creator>
  <dc:description/>
  <dc:language>en-US</dc:language>
  <cp:lastModifiedBy>Emil Ioan Cebuc</cp:lastModifiedBy>
  <dcterms:modified xsi:type="dcterms:W3CDTF">2020-04-07T07:46:06Z</dcterms:modified>
  <cp:revision>9</cp:revision>
  <dc:subject/>
  <dc:title>Macro definitions</dc:title>
</cp:coreProperties>
</file>